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B6C1-5636-4889-A738-A92A8E15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2E3C-D6BB-4C68-A4A1-AB6D4414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A28F-9AFA-4E48-9D90-3E3F57FD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376C-C051-40D5-B273-D63404DBB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00D3-F6BD-4532-A7F5-64BD2BB0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2939-6814-4615-A03F-16AA3DD9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0349-7A99-41BD-BC11-CF181B78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CFAF-4A46-473F-A000-CEC4A2A4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859D-D351-4737-9091-EBADB812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1955-8B6C-44A3-A1CD-EA33984E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C78B-1F5C-4622-871A-3C754CB0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C17E-4C95-4480-9BF2-CC3C4D5C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7764-B0E8-4839-95FA-63B07B69F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3441" t="48525" r="51571" b="19410"/>
          <a:stretch/>
        </p:blipFill>
        <p:spPr>
          <a:xfrm>
            <a:off x="1523880" y="2286000"/>
            <a:ext cx="2286000" cy="2125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9520" y="3352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,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23441" t="48525" r="51571" b="19410"/>
          <a:stretch/>
        </p:blipFill>
        <p:spPr>
          <a:xfrm>
            <a:off x="5460840" y="533520"/>
            <a:ext cx="2133720" cy="1984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23441" t="48525" r="51571" b="19410"/>
          <a:stretch/>
        </p:blipFill>
        <p:spPr>
          <a:xfrm>
            <a:off x="5460840" y="2359080"/>
            <a:ext cx="2133720" cy="1984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rcRect l="23441" t="48525" r="51571" b="19410"/>
          <a:stretch/>
        </p:blipFill>
        <p:spPr>
          <a:xfrm>
            <a:off x="5460840" y="4191120"/>
            <a:ext cx="2159280" cy="2008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754760" y="13716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,1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99440" y="298620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/2,15/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99440" y="489096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/3,15/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23441" t="48525" r="51571" b="19410"/>
          <a:stretch/>
        </p:blipFill>
        <p:spPr>
          <a:xfrm>
            <a:off x="762120" y="1830240"/>
            <a:ext cx="2286000" cy="2125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28129" t="51760" r="39850" b="9705"/>
          <a:stretch/>
        </p:blipFill>
        <p:spPr>
          <a:xfrm>
            <a:off x="3352680" y="1495440"/>
            <a:ext cx="2514600" cy="2193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rcRect l="28129" t="51760" r="39850" b="9705"/>
          <a:stretch/>
        </p:blipFill>
        <p:spPr>
          <a:xfrm>
            <a:off x="6324480" y="1447920"/>
            <a:ext cx="2590920" cy="2259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>
            <a:off x="6443640" y="3215880"/>
            <a:ext cx="868320" cy="438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446880" y="1929960"/>
            <a:ext cx="868320" cy="438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7302600" y="1973160"/>
            <a:ext cx="0" cy="1252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9040" y="27036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4680" y="2627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346800" y="3835440"/>
            <a:ext cx="1730160" cy="993600"/>
            <a:chOff x="6346800" y="3835440"/>
            <a:chExt cx="1730160" cy="993600"/>
          </a:xfrm>
        </p:grpSpPr>
        <p:pic>
          <p:nvPicPr>
            <p:cNvPr id="58" name="" descr=""/>
            <p:cNvPicPr/>
            <p:nvPr/>
          </p:nvPicPr>
          <p:blipFill>
            <a:blip r:embed="rId4"/>
            <a:srcRect l="14065" t="25880" r="78763" b="54995"/>
            <a:stretch/>
          </p:blipFill>
          <p:spPr>
            <a:xfrm>
              <a:off x="6346800" y="3835440"/>
              <a:ext cx="511200" cy="98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5"/>
            <a:srcRect l="22504" t="25880" r="65635" b="54995"/>
            <a:stretch/>
          </p:blipFill>
          <p:spPr>
            <a:xfrm>
              <a:off x="7230960" y="3840120"/>
              <a:ext cx="846000" cy="9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909840" y="38750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903360" y="43070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 flipV="1">
            <a:off x="7726320" y="3225600"/>
            <a:ext cx="868320" cy="438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02600" y="322596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04920" y="3809880"/>
            <a:ext cx="2666520" cy="990720"/>
            <a:chOff x="304920" y="3809880"/>
            <a:chExt cx="2666520" cy="990720"/>
          </a:xfrm>
        </p:grpSpPr>
        <p:pic>
          <p:nvPicPr>
            <p:cNvPr id="65" name="" descr=""/>
            <p:cNvPicPr/>
            <p:nvPr/>
          </p:nvPicPr>
          <p:blipFill>
            <a:blip r:embed="rId6"/>
            <a:srcRect l="14065" t="25880" r="65635" b="54995"/>
            <a:stretch/>
          </p:blipFill>
          <p:spPr>
            <a:xfrm>
              <a:off x="1523880" y="3811680"/>
              <a:ext cx="1447560" cy="988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"/>
            <p:cNvGrpSpPr/>
            <p:nvPr/>
          </p:nvGrpSpPr>
          <p:grpSpPr>
            <a:xfrm>
              <a:off x="304920" y="3809880"/>
              <a:ext cx="1304640" cy="990720"/>
              <a:chOff x="304920" y="3809880"/>
              <a:chExt cx="1304640" cy="990720"/>
            </a:xfrm>
          </p:grpSpPr>
          <p:pic>
            <p:nvPicPr>
              <p:cNvPr id="67" name="" descr=""/>
              <p:cNvPicPr/>
              <p:nvPr/>
            </p:nvPicPr>
            <p:blipFill>
              <a:blip r:embed="rId7"/>
              <a:srcRect l="30005" t="25880" r="65635" b="54995"/>
              <a:stretch/>
            </p:blipFill>
            <p:spPr>
              <a:xfrm>
                <a:off x="1297080" y="3811320"/>
                <a:ext cx="312480" cy="98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" descr=""/>
              <p:cNvPicPr/>
              <p:nvPr/>
            </p:nvPicPr>
            <p:blipFill>
              <a:blip r:embed="rId8"/>
              <a:srcRect l="14065" t="25880" r="80638" b="54995"/>
              <a:stretch/>
            </p:blipFill>
            <p:spPr>
              <a:xfrm>
                <a:off x="304920" y="3809880"/>
                <a:ext cx="377640" cy="98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>
                <a:off x="651960" y="38192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45480" y="42512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058400" y="38098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051920" y="4241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1473120" y="4078440"/>
              <a:ext cx="22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114720" y="3809880"/>
            <a:ext cx="2676600" cy="990720"/>
            <a:chOff x="3114720" y="3809880"/>
            <a:chExt cx="2676600" cy="990720"/>
          </a:xfrm>
        </p:grpSpPr>
        <p:pic>
          <p:nvPicPr>
            <p:cNvPr id="75" name="" descr=""/>
            <p:cNvPicPr/>
            <p:nvPr/>
          </p:nvPicPr>
          <p:blipFill>
            <a:blip r:embed="rId9"/>
            <a:srcRect l="14065" t="25880" r="65635" b="58230"/>
            <a:stretch/>
          </p:blipFill>
          <p:spPr>
            <a:xfrm>
              <a:off x="4267440" y="3822480"/>
              <a:ext cx="1523880" cy="86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"/>
            <p:cNvGrpSpPr/>
            <p:nvPr/>
          </p:nvGrpSpPr>
          <p:grpSpPr>
            <a:xfrm>
              <a:off x="3114720" y="3809880"/>
              <a:ext cx="1305000" cy="990720"/>
              <a:chOff x="3114720" y="3809880"/>
              <a:chExt cx="1305000" cy="990720"/>
            </a:xfrm>
          </p:grpSpPr>
          <p:pic>
            <p:nvPicPr>
              <p:cNvPr id="77" name="" descr=""/>
              <p:cNvPicPr/>
              <p:nvPr/>
            </p:nvPicPr>
            <p:blipFill>
              <a:blip r:embed="rId10"/>
              <a:srcRect l="30005" t="25880" r="65635" b="54995"/>
              <a:stretch/>
            </p:blipFill>
            <p:spPr>
              <a:xfrm>
                <a:off x="4106880" y="3811320"/>
                <a:ext cx="312840" cy="98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" descr=""/>
              <p:cNvPicPr/>
              <p:nvPr/>
            </p:nvPicPr>
            <p:blipFill>
              <a:blip r:embed="rId11"/>
              <a:srcRect l="14065" t="25880" r="80638" b="54995"/>
              <a:stretch/>
            </p:blipFill>
            <p:spPr>
              <a:xfrm>
                <a:off x="3114720" y="3809880"/>
                <a:ext cx="378000" cy="98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3462120" y="38192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455640" y="42512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868200" y="38098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862080" y="4241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4255920" y="4065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23441" t="48525" r="51571" b="19410"/>
          <a:stretch/>
        </p:blipFill>
        <p:spPr>
          <a:xfrm>
            <a:off x="1066680" y="228600"/>
            <a:ext cx="2286000" cy="2125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49360" y="2209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,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28129" t="61465" r="46882" b="9705"/>
          <a:stretch/>
        </p:blipFill>
        <p:spPr>
          <a:xfrm>
            <a:off x="3809880" y="533520"/>
            <a:ext cx="1905120" cy="1592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192560" y="22096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,5/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rcRect l="28129" t="32350" r="51571" b="32350"/>
          <a:stretch/>
        </p:blipFill>
        <p:spPr>
          <a:xfrm>
            <a:off x="6580080" y="2986200"/>
            <a:ext cx="1573200" cy="1981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10480" y="48150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,15/1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rcRect l="28129" t="48525" r="49227" b="22645"/>
          <a:stretch/>
        </p:blipFill>
        <p:spPr>
          <a:xfrm>
            <a:off x="6477120" y="558720"/>
            <a:ext cx="1752480" cy="1617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78520" y="22096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,7/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5"/>
          <a:srcRect l="28129" t="48525" r="49227" b="22645"/>
          <a:stretch/>
        </p:blipFill>
        <p:spPr>
          <a:xfrm>
            <a:off x="1066680" y="3106800"/>
            <a:ext cx="1752840" cy="1617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392120" y="48006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,9/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02:00:30Z</dcterms:created>
  <dc:creator>Edward D. Dahl</dc:creator>
  <dc:description/>
  <dc:language>en-US</dc:language>
  <cp:lastModifiedBy>Edward D. Dahl</cp:lastModifiedBy>
  <dcterms:modified xsi:type="dcterms:W3CDTF">2011-03-18T03:31:50Z</dcterms:modified>
  <cp:revision>8</cp:revision>
  <dc:subject/>
  <dc:title>Slide 1</dc:title>
</cp:coreProperties>
</file>